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C4E-F968-489A-A8D1-64DCEB37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AD8-07E3-4495-87D8-7752C4DC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EB7-EEE0-49FF-994F-C37D8B20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813-2FB6-469B-99EC-F9938BFD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8B4-840C-4324-AF0B-D747054E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0D5-A881-4618-933F-108B51AE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A27-33B4-4217-90FC-F110B277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501-B971-49D6-9321-2C92EA5F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067-D479-4904-80DA-451504A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46D-36FD-4119-85CB-4943DB09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9AD-CDDE-4987-AFCA-C7611D25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851-4F48-4448-BCDE-6947F49B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5DE0-C111-4619-8934-DF66312A7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78168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8610480"/>
            <a:ext cx="58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* Core Image users only (Mac OS 10.4 or better with a G4, G5 or Intel Ma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55880" y="17132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989600" y="17132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20720" y="5674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2855880" y="56757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989600" y="56757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722160" y="17132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72230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678168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72230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678168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72230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81952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260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281952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260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81952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60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8381880"/>
            <a:ext cx="58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Footnot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4:35:57Z</dcterms:created>
  <dc:creator>Mark Pazollli</dc:creator>
  <dc:description/>
  <dc:language>en-US</dc:language>
  <cp:lastModifiedBy>Mark Pazollli</cp:lastModifiedBy>
  <dcterms:modified xsi:type="dcterms:W3CDTF">2007-11-10T01:44:39Z</dcterms:modified>
  <cp:revision>13</cp:revision>
  <dc:subject/>
  <dc:title>PowerPoint Presentation</dc:title>
</cp:coreProperties>
</file>