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4D2E-CA77-4403-9C2A-64F3C782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056-7FFA-44FD-9366-71FD4CA7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763-A80D-461A-BBFB-AA0B6A68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2CE-1332-4229-A13E-C6E6969C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77D-A1BD-4CA4-8AE7-DADBE21C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CCA-EFA1-4B57-B234-7EA5F950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E2C-F38B-49DB-A45A-269ED3F1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76A-BF1E-4EE4-9DF1-220267FE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7E5-3A59-4928-A1DD-EA2807EA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6DA4-B8BF-40E5-8AD3-BBFCE6E1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6BD-57FC-4A94-B250-FFA579EC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1C1-77C1-4287-A356-A105CD81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AEA8-89D1-41F6-ADC8-5DABFB062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78168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8610480"/>
            <a:ext cx="58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* Core Image users only (Mac OS 10.4 or better with a G4, G5 or Intel Ma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2855880" y="17132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989600" y="17132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20720" y="5674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2855880" y="56757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989600" y="56757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722160" y="171324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999999"/>
                </a:solidFill>
                <a:latin typeface="Arial Narrow"/>
              </a:rPr>
              <a:t>Groupin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72230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678168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72230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678168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722304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81952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260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281952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260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2819520"/>
            <a:ext cx="175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Lucida Sans"/>
              </a:rPr>
              <a:t>Plug-in Name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60880"/>
            <a:ext cx="175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Lucida Sans"/>
              </a:rPr>
              <a:t>Plug-in Details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8381880"/>
            <a:ext cx="58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Arial"/>
              </a:rPr>
              <a:t>Footnote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4:35:57Z</dcterms:created>
  <dc:creator>Mark Pazollli</dc:creator>
  <dc:description/>
  <dc:language>en-US</dc:language>
  <cp:lastModifiedBy>Mark Pazollli</cp:lastModifiedBy>
  <dcterms:modified xsi:type="dcterms:W3CDTF">2007-11-10T01:44:39Z</dcterms:modified>
  <cp:revision>13</cp:revision>
  <dc:subject/>
  <dc:title>PowerPoint Presentation</dc:title>
</cp:coreProperties>
</file>